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0B2F-975A-40C7-A218-D191829C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690-DD11-4196-8E31-7D5D502A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0C8-768C-447E-AC15-0B08D917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7E9F-3940-4237-9974-F19A8A18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A45B-1D6E-4DF5-A3AE-A07B01FD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F004-CF5B-40F3-9B05-AB275975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F486-4845-405F-9F40-5D7560A3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0B84-2661-4F4C-B5EA-FF0080C9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34D1-AFCC-4364-9894-AF8EBC98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D96D-5282-4EBF-A1B9-3EA789D1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897A-D216-471F-A801-906407FF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DB6D-54BF-4FA9-AFC9-35AE6D21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CA0E-7334-412A-BA9C-C2467CCE3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-27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activate prior knowledge and gain background knowledge in order to better comprehend tex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335268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is this excerpt about? (I’m about to put it on the board.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ANNOTATE and RESPO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you read the article, record at LEAST five annot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n, in your RRJ respond to this ques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new idea did you learn today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at new idea did you learn today? 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imination RRJ 8-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new idea I learned today is that 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know this to be true because the text mentioned “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, the text explained “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______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this idea helped me understand ________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uns, Nouns, 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no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7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7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7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7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opher Colum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scovered Ame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hips:  Nina, pinta, santa 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scovered the world was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er route- spices from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 of Spain gave him money to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opher Colum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proved that the world was not f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ould fall of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hing, sea monst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believed the Earth was egg-shaped and the top was parad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ed 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ats: Nina, pinta, santa m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opher Colum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know about Christopher Columb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t- 3 boats: Nina, pinta, santa m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ed native Ame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d the world was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jour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questioned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Readi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your reading response journal, tell me all the things you already know about the topic of your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snowboarding, competition, sports, slavery, memory loss, fea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finish with your response, read quietly. I’ll will be conferencing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 Knowled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-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opic of my book is 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know this because… (2 pieces of Text Evidence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the things I know about _____________ are: 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helped me understand 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 8-3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activate prior knowledge and gain background knowledge in order to better comprehend tex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rite down ALL the words that pop into your head when you hear the word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scrimination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or Knowledge Graphic Organiz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LY, fill in the innermost circle with words you associate with DISCRIM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, talk with your group members and add their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the text as I read out loud.  I am going to show you how I annotat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I read, I write dow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-effect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id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01:50:51Z</dcterms:created>
  <dc:creator>Administrator</dc:creator>
  <dc:description/>
  <dc:language>en-US</dc:language>
  <cp:lastModifiedBy>Administrator</cp:lastModifiedBy>
  <dcterms:modified xsi:type="dcterms:W3CDTF">2010-08-30T13:13:16Z</dcterms:modified>
  <cp:revision>9</cp:revision>
  <dc:subject/>
  <dc:title>Do Now 8-27 I can activate prior knowledge and gain background knowledge in order to better comprehend text. </dc:title>
</cp:coreProperties>
</file>